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7D36-0D88-4093-9EAD-3BCDC5DAB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803B-0A1F-41A0-A37E-86B31A4BC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965B-0FF9-4E11-A5CE-C3A9D6447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39D9-BF0D-4524-96A3-8509F0656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60B-3873-4746-B6C9-288C80A0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AFF-773F-4DAA-9FC9-FD889913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834-1605-436A-AA02-20C84AEA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195-6200-4A66-A8F4-67230D8D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E0E-AE9C-4CB6-A5E4-A346B4D1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CAD-6800-46A9-8D55-AAFDCDB7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0D0-454E-4B9E-8C83-110BE7B0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9A3-C820-4DC2-B021-FCB4A3B3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946E-87C9-46D3-924E-608E7E2A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6C6-C757-44A8-B75F-1F862DFD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157-97F3-46BC-9266-BDCD539F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139-294D-4112-AF88-38E2E324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CF00-2D9B-4024-9298-65400A43B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Y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xperien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US House of Representatives, US Sen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moted a tough  foreign policy view, believe in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/Historical Impact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isis included Bay of Pigs Invasion, Cuban Missile Crisis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 Wall:   Legislative agenda led to the eventual pass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vil Rights Act by LBJ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52578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352680" y="54100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63868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errilynn Giles</cp:lastModifiedBy>
  <dcterms:modified xsi:type="dcterms:W3CDTF">2014-12-02T19:23:32Z</dcterms:modified>
  <cp:revision>27</cp:revision>
  <dc:subject/>
  <dc:title>Profile</dc:title>
</cp:coreProperties>
</file>